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01A-9CB0-4BDB-A5EE-B91CCD78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D2E-5CEC-4DFC-967D-8301D586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C1B-9A78-418F-A9E5-261FA5FD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27E-9C25-412C-8917-C96167E4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476-157D-452C-9715-80281C90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976-AC22-4EDA-84C0-171BD829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1E3-94CD-47E3-8DCA-BCB5C24A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BC6-021D-4316-B70B-647A4F2F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F5A-4C60-492D-A000-0B215C0C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831-643B-4365-9774-A7DC0CF6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0E8-A819-4C53-AB58-50772378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E61-EB0A-4392-9880-81E44FC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CB5C-903C-43F2-BC8C-902254E96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1 Tak vzácny je a milý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vzácny je a mil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vätej sobo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droj požehnania, si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nak Božej dobr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kloň v úcte svoju hla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 pokore sa st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význam, cenu prav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tom dare pochopíš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om vzácnom dare svoj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k žriedlu nových kr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 živej vody zdroj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dní únavných zv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deň odpočinku rad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 z lásky všetkým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odňať každú star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o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ŕ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c nám pokoj vli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ť vrúcnej vďaky chorá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 srdca pl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všetko, čo nám dopri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v svoj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ánov požehna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ú túžbu budí v 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prijať z Božích dla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ar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tia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ch kr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34:25Z</dcterms:modified>
  <cp:revision>22</cp:revision>
  <dc:subject/>
  <dc:title>Je veľký náš Pán, on slávy je Kráľ Nech do všetkých strán  spev vrúcnych znie chvál.</dc:title>
</cp:coreProperties>
</file>